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27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33.jpeg" ContentType="image/jpeg"/>
  <Override PartName="/ppt/media/image34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3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DE0DA-12B6-4F41-A453-095C6C9605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de e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osas person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8494-A544-4C51-AC09-BD8442E2D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B7581-AEDD-42EC-86BA-C8AE9601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24E4-34D5-4C7C-876D-0B8366E5C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D96E5-862C-4C54-B8DC-FFAA626FF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8F231-0AAB-4186-92C2-DE1602C0D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C6778-201E-4236-B19D-7D0DFBF52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4DF1-64B5-4CB3-8711-30A267E08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77C71-4E51-4112-A9B2-7F3BE707C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42ED9-4E94-4D00-B4C2-163446F4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A624-D53F-488C-89E0-A6FE6CA7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167D-CBB3-4439-8360-67716F8BD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FF54-BBD6-477C-B4AA-DE5EF60C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5ABF1-A686-463F-8342-66E650EC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C1E3-6EC1-4C37-85A5-45E97B0C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3FCD-4BD0-4CC7-A0B0-0010E2667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43833-7D45-4D65-B106-6A904DE55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8E23-4E58-4731-AFE3-EE239F1B1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906A-B840-43D4-A4C6-8FEF0244D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FE54-5FC5-4056-8417-CA740F73B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0EF10-D9E4-4192-8FC3-D85510CD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404F-2F5B-4CDC-8CCE-DAB4B2DF5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2A5A-062F-40B1-B192-CFDEB5E1A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A551F-BDF3-43DC-B6D0-1AF7E2857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29FB-B0A4-4FE3-8BD9-5952952B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E6BA-B902-4B9E-BD37-8A1B9559317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D6018-2066-4DA8-96BA-A2B4B16787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image" Target="../media/image21.jpeg"/><Relationship Id="rId7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en.wikipedia.org/wiki/Liceu" TargetMode="External"/><Relationship Id="rId3" Type="http://schemas.openxmlformats.org/officeDocument/2006/relationships/hyperlink" Target="http://en.wikipedia.org/wiki/Liceu" TargetMode="External"/><Relationship Id="rId4" Type="http://schemas.openxmlformats.org/officeDocument/2006/relationships/hyperlink" Target="http://en.wikipedia.org/wiki/Liceu" TargetMode="External"/><Relationship Id="rId5" Type="http://schemas.openxmlformats.org/officeDocument/2006/relationships/hyperlink" Target="http://en.wikipedia.org/wiki/Liceu" TargetMode="External"/><Relationship Id="rId6" Type="http://schemas.openxmlformats.org/officeDocument/2006/relationships/hyperlink" Target="http://en.wikipedia.org/wiki/Liceu" TargetMode="External"/><Relationship Id="rId7" Type="http://schemas.openxmlformats.org/officeDocument/2006/relationships/image" Target="../media/image31.jpeg"/><Relationship Id="rId8" Type="http://schemas.openxmlformats.org/officeDocument/2006/relationships/image" Target="../media/image32.jpeg"/><Relationship Id="rId9" Type="http://schemas.openxmlformats.org/officeDocument/2006/relationships/image" Target="../media/image33.jpeg"/><Relationship Id="rId10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266760"/>
            <a:ext cx="9144000" cy="61563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1752480" y="2514600"/>
            <a:ext cx="56390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BARCELONA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ooper Black"/>
              </a:rPr>
              <a:t>200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oper Black"/>
              </a:rPr>
              <a:t>Crème Catal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oper Black"/>
              </a:rPr>
              <a:t>Los ingred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oper Black"/>
              </a:rPr>
              <a:t>Almidón de maí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oper Black"/>
              </a:rPr>
              <a:t>le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oper Black"/>
              </a:rPr>
              <a:t>zumo de li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oper Black"/>
              </a:rPr>
              <a:t>cane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oper Black"/>
              </a:rPr>
              <a:t>yemas de hue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oper Black"/>
              </a:rPr>
              <a:t>azúcar blan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952560" y="1981080"/>
            <a:ext cx="3274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724280" cy="3543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4724280" y="0"/>
            <a:ext cx="4419720" cy="35575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0" y="3535200"/>
            <a:ext cx="4267080" cy="3322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5"/>
          <a:stretch/>
        </p:blipFill>
        <p:spPr>
          <a:xfrm>
            <a:off x="3809880" y="3498840"/>
            <a:ext cx="5334120" cy="33591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035160" cy="41148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2971800" y="2743200"/>
            <a:ext cx="3228840" cy="4114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6059520" y="0"/>
            <a:ext cx="3084480" cy="380988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0" y="4876920"/>
            <a:ext cx="2895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Antoni Gau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Modernis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00400" y="1676520"/>
            <a:ext cx="2590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Joan Mi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Surrea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324480" y="4191120"/>
            <a:ext cx="2819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Pablo Picas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Cub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438280" y="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oper Black"/>
              </a:rPr>
              <a:t>Personas Famosas de Barcel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48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Cooper Black"/>
              </a:rPr>
              <a:t>Lugares De Gaud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4335480"/>
            <a:ext cx="3362400" cy="252252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5791320" y="914400"/>
            <a:ext cx="3352680" cy="23828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3352680" y="2209680"/>
            <a:ext cx="2509920" cy="38102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5"/>
          <a:stretch/>
        </p:blipFill>
        <p:spPr>
          <a:xfrm>
            <a:off x="5791320" y="3263760"/>
            <a:ext cx="3593880" cy="35942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57200" y="1066680"/>
            <a:ext cx="47242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3494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494aa"/>
                </a:solidFill>
                <a:latin typeface="Cooper Black"/>
              </a:rPr>
              <a:t>La Casa Mi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494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494aa"/>
                </a:solidFill>
                <a:latin typeface="Cooper Black"/>
              </a:rPr>
              <a:t>La Sagrada Famil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3494a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494aa"/>
                </a:solidFill>
                <a:latin typeface="Cooper Black"/>
              </a:rPr>
              <a:t>Park Gue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oper Black"/>
              </a:rPr>
              <a:t>Arte De Joan Mir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3124080" y="914400"/>
            <a:ext cx="2846520" cy="2719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3352680"/>
            <a:ext cx="3137040" cy="35053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5334120" y="3692520"/>
            <a:ext cx="3809880" cy="31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oper Black"/>
              </a:rPr>
              <a:t>Arte de Picass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762120"/>
            <a:ext cx="2112840" cy="33400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7153200" y="762120"/>
            <a:ext cx="1990800" cy="26622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3276720" y="914400"/>
            <a:ext cx="2684520" cy="327672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1828800" y="3962520"/>
            <a:ext cx="2349360" cy="2895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6"/>
          <a:stretch/>
        </p:blipFill>
        <p:spPr>
          <a:xfrm>
            <a:off x="4603680" y="4213080"/>
            <a:ext cx="4540320" cy="264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oper Black"/>
              </a:rPr>
              <a:t>La Rambl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228600" y="1295280"/>
            <a:ext cx="1893960" cy="2524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048120" y="1676520"/>
            <a:ext cx="2327040" cy="2205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6324480" y="1371600"/>
            <a:ext cx="2060640" cy="27432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5410080" y="4191120"/>
            <a:ext cx="3505320" cy="24098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6"/>
          <a:stretch/>
        </p:blipFill>
        <p:spPr>
          <a:xfrm>
            <a:off x="609480" y="3860640"/>
            <a:ext cx="3992760" cy="299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oper Black"/>
              </a:rPr>
              <a:t>El Merca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04920" y="1295280"/>
            <a:ext cx="3170160" cy="23688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228600" y="3962520"/>
            <a:ext cx="3252960" cy="24382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5105520" y="914400"/>
            <a:ext cx="3720960" cy="28843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5"/>
          <a:stretch/>
        </p:blipFill>
        <p:spPr>
          <a:xfrm>
            <a:off x="4191120" y="3733920"/>
            <a:ext cx="388764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9999"/>
                </a:solidFill>
                <a:uFillTx/>
                <a:latin typeface="Cooper Black"/>
                <a:hlinkClick r:id="rId2"/>
              </a:rPr>
              <a:t>Gran</a:t>
            </a:r>
            <a:r>
              <a:rPr b="0" lang="es-ES_tradnl" sz="4400" spc="-1" strike="noStrike" u="sng">
                <a:solidFill>
                  <a:srgbClr val="009999"/>
                </a:solidFill>
                <a:uFillTx/>
                <a:latin typeface="Cooper Black"/>
                <a:hlinkClick r:id="rId3"/>
              </a:rPr>
              <a:t> </a:t>
            </a:r>
            <a:r>
              <a:rPr b="0" lang="es-ES_tradnl" sz="4400" spc="-1" strike="noStrike" u="sng">
                <a:solidFill>
                  <a:srgbClr val="009999"/>
                </a:solidFill>
                <a:uFillTx/>
                <a:latin typeface="Cooper Black"/>
                <a:hlinkClick r:id="rId4"/>
              </a:rPr>
              <a:t>Teatre </a:t>
            </a:r>
            <a:r>
              <a:rPr b="0" lang="es-ES_tradnl" sz="4400" spc="-1" strike="noStrike" u="sng">
                <a:solidFill>
                  <a:srgbClr val="009999"/>
                </a:solidFill>
                <a:uFillTx/>
                <a:latin typeface="Cooper Black"/>
                <a:hlinkClick r:id="rId5"/>
              </a:rPr>
              <a:t>del </a:t>
            </a:r>
            <a:r>
              <a:rPr b="0" lang="es-ES_tradnl" sz="4400" spc="-1" strike="noStrike" u="sng">
                <a:solidFill>
                  <a:srgbClr val="009999"/>
                </a:solidFill>
                <a:uFillTx/>
                <a:latin typeface="Cooper Black"/>
                <a:hlinkClick r:id="rId6"/>
              </a:rPr>
              <a:t>Lic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7"/>
          <a:stretch/>
        </p:blipFill>
        <p:spPr>
          <a:xfrm>
            <a:off x="4648320" y="1219320"/>
            <a:ext cx="3822480" cy="26715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8"/>
          <a:stretch/>
        </p:blipFill>
        <p:spPr>
          <a:xfrm>
            <a:off x="4876920" y="4038480"/>
            <a:ext cx="3423960" cy="26132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9"/>
          <a:stretch/>
        </p:blipFill>
        <p:spPr>
          <a:xfrm>
            <a:off x="228600" y="1828800"/>
            <a:ext cx="2790720" cy="40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6:54:46Z</dcterms:created>
  <dc:creator>Matthew Russell</dc:creator>
  <dc:description/>
  <dc:language>en-US</dc:language>
  <cp:lastModifiedBy>Matthew Russell</cp:lastModifiedBy>
  <dcterms:modified xsi:type="dcterms:W3CDTF">2008-03-11T11:55:31Z</dcterms:modified>
  <cp:revision>5</cp:revision>
  <dc:subject/>
  <dc:title>PowerPoint Presentation</dc:title>
</cp:coreProperties>
</file>